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1A65-BE1A-48C7-89BE-46C5AAF45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334B-08D2-42C1-8727-B62F36F93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11E7-A806-4BE5-B7FF-5909DFDDA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3DAC-0815-449C-AEE6-82B488F58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9BAE-E5B4-4C4A-A9D1-F4539BB2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31F0-F9B3-41B5-BD11-05B8AB41B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24E4-6980-41B2-B37F-A5974B81E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BA38-8835-42C0-B794-2DD98E8A6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E3DA-C330-4939-8A24-C79636B11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31BD-8C2D-4CC3-8808-A5ECDE16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0FD0-9284-45CE-879E-7A9B801A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49B1-E2D7-44E4-A474-5623364B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8F25F-F056-4E9C-BE40-5DDF45129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2743200" y="-1143000"/>
            <a:ext cx="146304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3T23:19:43Z</dcterms:created>
  <dc:creator>Preferred Customer</dc:creator>
  <dc:description/>
  <dc:language>en-US</dc:language>
  <cp:lastModifiedBy>Preferred Customer</cp:lastModifiedBy>
  <dcterms:modified xsi:type="dcterms:W3CDTF">2009-05-03T23:20:05Z</dcterms:modified>
  <cp:revision>1</cp:revision>
  <dc:subject/>
  <dc:title>Slide 1</dc:title>
</cp:coreProperties>
</file>